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884-5101-4211-ABC5-F20505B6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7A-8C73-4F57-B5F3-A35E33A5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5D7-D0FF-49F1-92E2-AC3FDD73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CEF-0AF5-4750-9A8B-B4473062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79DF-3751-4558-B926-577C235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130-4F20-40D4-9020-5BD50C2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7F2C-A1AD-4B35-B213-C01BE28F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7BA-5474-4E54-8A6A-F838E44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ABD-D506-4407-A69B-BC805A4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674-3FAC-4BC3-B00E-782D3691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66FD-838A-4CC4-B1E8-CACBF1C8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188-1E16-47FC-B21C-19A5E670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6EB5-8603-4B89-A0AF-82B3C21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2C6F-87EE-4115-866F-B5DCF6B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A64F-1AD1-4275-87A4-C9C4CFD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3D7-40C2-422B-8706-5E665CF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B2AC-C1A5-40E3-AB2F-4431A337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B77-C235-43A6-8B26-CC93C252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F08-43A0-42B5-85DA-5E3DD467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9C7-A012-4B5C-8A53-C469449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2EA-1EF3-4763-B61D-D76B321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94B-70D5-4F5F-B6FE-8700D46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6DB-5071-4FBF-B942-6EFDAB3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163-80CA-4057-9AE1-D9B6CDC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8D3-4D2E-4B29-B2DC-0B86CB845844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F321-4A93-4E45-864E-4F48A24BAFA9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magini întâlnite în viaţa de zi cu zi</a:t>
            </a:r>
            <a:r>
              <a:rPr b="0" lang="en-US" sz="4400" spc="-1" strike="noStrike">
                <a:solidFill>
                  <a:srgbClr val="ccff99"/>
                </a:solidFill>
                <a:latin typeface="Arabia HU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4720" y="2636640"/>
            <a:ext cx="590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PURI GEOMETR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Clădiri din trecu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314880" cy="2276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30048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2953080" cy="237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880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C</a:t>
            </a: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lădiri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2374920" cy="2238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3529080" cy="230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219640" y="1413000"/>
            <a:ext cx="26654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54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Mobilă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15920" y="1268280"/>
            <a:ext cx="348480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42920" y="4164120"/>
            <a:ext cx="324180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311640" cy="237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31128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6600" y="290520"/>
            <a:ext cx="594828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Jucării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05000" y="1484280"/>
            <a:ext cx="305100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951280" cy="232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571760" y="3941640"/>
            <a:ext cx="2568600" cy="236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435640" y="4076640"/>
            <a:ext cx="2519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Juc</a:t>
            </a: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ăria rubic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3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3313080" cy="2303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25923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rta”</a:t>
            </a:r>
            <a:r>
              <a:rPr b="0" i="1" lang="en-US" sz="6000" spc="-1" strike="noStrike">
                <a:solidFill>
                  <a:srgbClr val="ccff99"/>
                </a:solidFill>
                <a:latin typeface="Arabia HU"/>
              </a:rPr>
              <a:t>CUBISMUL</a:t>
            </a: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737080" cy="2305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0000" y="3941640"/>
            <a:ext cx="2232000" cy="244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2232000" cy="197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2886120" cy="25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nteresan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7480" y="1755720"/>
            <a:ext cx="3170160" cy="21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00240" y="4140360"/>
            <a:ext cx="3084480" cy="2241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1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364000" y="1898640"/>
            <a:ext cx="236700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nteresan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32480" y="1600200"/>
            <a:ext cx="227016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607000" y="3941640"/>
            <a:ext cx="2119320" cy="2189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3168720" cy="218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1-01-27T14:40:20Z</dcterms:modified>
  <cp:revision>12</cp:revision>
  <dc:subject/>
  <dc:title>PowerPoint Presentation</dc:title>
</cp:coreProperties>
</file>